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142-BC4E-4C72-9C9B-22A1A54A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BB4-F567-4323-BEC1-0B418843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4AD-E395-4D92-B2BF-8C401BBC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56C-29C1-447F-891A-64974BEA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11D-84DC-4D42-8EE2-7BBD0A63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11A-9375-4132-9429-CE708564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C6B-33FA-4138-A6E0-729A3475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EFC-1D43-4783-A8AF-28ECE7D6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04A-9E5D-4407-A379-84B60748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CCC-FF66-4CA3-A6D6-4189F3B7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17D-7B6E-4D0A-8F97-B5D49545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D3E-D1D9-43F1-905D-27BE1DA2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5903-9FC0-41DE-ADA3-A63FFC808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78.xml"/><Relationship Id="rId3" Type="http://schemas.openxmlformats.org/officeDocument/2006/relationships/slide" Target="slide80.xml"/><Relationship Id="rId4" Type="http://schemas.openxmlformats.org/officeDocument/2006/relationships/slide" Target="slide82.xml"/><Relationship Id="rId5" Type="http://schemas.openxmlformats.org/officeDocument/2006/relationships/slide" Target="slide84.xml"/><Relationship Id="rId6" Type="http://schemas.openxmlformats.org/officeDocument/2006/relationships/slide" Target="slide86.xml"/><Relationship Id="rId7" Type="http://schemas.openxmlformats.org/officeDocument/2006/relationships/slide" Target="slide88.xml"/><Relationship Id="rId8" Type="http://schemas.openxmlformats.org/officeDocument/2006/relationships/slide" Target="slide90.xml"/><Relationship Id="rId9" Type="http://schemas.openxmlformats.org/officeDocument/2006/relationships/slide" Target="slide92.xml"/><Relationship Id="rId10" Type="http://schemas.openxmlformats.org/officeDocument/2006/relationships/slide" Target="slide94.xml"/><Relationship Id="rId11" Type="http://schemas.openxmlformats.org/officeDocument/2006/relationships/slide" Target="slide96.xml"/><Relationship Id="rId12" Type="http://schemas.openxmlformats.org/officeDocument/2006/relationships/slide" Target="slide98.xml"/><Relationship Id="rId13" Type="http://schemas.openxmlformats.org/officeDocument/2006/relationships/slide" Target="slide100.xml"/><Relationship Id="rId14" Type="http://schemas.openxmlformats.org/officeDocument/2006/relationships/slide" Target="slide102.xml"/><Relationship Id="rId15" Type="http://schemas.openxmlformats.org/officeDocument/2006/relationships/slide" Target="slide104.xml"/><Relationship Id="rId16" Type="http://schemas.openxmlformats.org/officeDocument/2006/relationships/slide" Target="slide106.xml"/><Relationship Id="rId17" Type="http://schemas.openxmlformats.org/officeDocument/2006/relationships/slide" Target="slide108.xml"/><Relationship Id="rId18" Type="http://schemas.openxmlformats.org/officeDocument/2006/relationships/slide" Target="slide110.xml"/><Relationship Id="rId19" Type="http://schemas.openxmlformats.org/officeDocument/2006/relationships/slide" Target="slide112.xml"/><Relationship Id="rId20" Type="http://schemas.openxmlformats.org/officeDocument/2006/relationships/slide" Target="slide114.xml"/><Relationship Id="rId21" Type="http://schemas.openxmlformats.org/officeDocument/2006/relationships/slide" Target="slide116.xml"/><Relationship Id="rId22" Type="http://schemas.openxmlformats.org/officeDocument/2006/relationships/slide" Target="slide118.xml"/><Relationship Id="rId23" Type="http://schemas.openxmlformats.org/officeDocument/2006/relationships/slide" Target="slide120.xml"/><Relationship Id="rId24" Type="http://schemas.openxmlformats.org/officeDocument/2006/relationships/slide" Target="slide122.xml"/><Relationship Id="rId25" Type="http://schemas.openxmlformats.org/officeDocument/2006/relationships/slide" Target="slide124.xml"/><Relationship Id="rId26" Type="http://schemas.openxmlformats.org/officeDocument/2006/relationships/slide" Target="slide129.xml"/><Relationship Id="rId27" Type="http://schemas.openxmlformats.org/officeDocument/2006/relationships/slide" Target="slide131.xml"/><Relationship Id="rId28" Type="http://schemas.openxmlformats.org/officeDocument/2006/relationships/slide" Target="slide133.xml"/><Relationship Id="rId29" Type="http://schemas.openxmlformats.org/officeDocument/2006/relationships/slide" Target="slide135.xml"/><Relationship Id="rId30" Type="http://schemas.openxmlformats.org/officeDocument/2006/relationships/slide" Target="slide137.xml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60.xml"/><Relationship Id="rId27" Type="http://schemas.openxmlformats.org/officeDocument/2006/relationships/slide" Target="slide62.xml"/><Relationship Id="rId28" Type="http://schemas.openxmlformats.org/officeDocument/2006/relationships/slide" Target="slide64.xml"/><Relationship Id="rId29" Type="http://schemas.openxmlformats.org/officeDocument/2006/relationships/slide" Target="slide66.xml"/><Relationship Id="rId30" Type="http://schemas.openxmlformats.org/officeDocument/2006/relationships/slide" Target="slide68.xml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419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A review of </a:t>
            </a:r>
            <a:br>
              <a:rPr sz="2000"/>
            </a:br>
            <a:r>
              <a:rPr b="0" i="1" lang="en-US" sz="2000" spc="-1" strike="noStrike">
                <a:solidFill>
                  <a:srgbClr val="66ccff"/>
                </a:solidFill>
                <a:latin typeface="Arial Unicode MS"/>
              </a:rPr>
              <a:t>Agricultural Education I</a:t>
            </a:r>
            <a:br>
              <a:rPr sz="2000"/>
            </a:b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Unit 5 Objectives 1-2, 4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5560" y="385776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Unicode MS"/>
              </a:rPr>
              <a:t>Swine Facts,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066680" y="1066680"/>
            <a:ext cx="6858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Write the last question her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5440" y="6095880"/>
            <a:ext cx="367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Unicode MS"/>
              </a:rPr>
              <a:t>Click screen to start 30-second sound cl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162920" y="53341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Final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pyright 2007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urriculum and Instructional Materials Cent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Oklahoma Department of Career and Technology Educ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500 W. Seventh Ave., Stillwater, OK  74074-4364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ll Free: 800-654-4502 / http://www.okcimc.com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epared B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ara Pehrsson and Margi Stone Coop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ith Special Thanks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andy McDan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CIMC" descr=""/>
          <p:cNvPicPr/>
          <p:nvPr/>
        </p:nvPicPr>
        <p:blipFill>
          <a:blip r:embed="rId2"/>
          <a:stretch/>
        </p:blipFill>
        <p:spPr>
          <a:xfrm>
            <a:off x="3322800" y="1371600"/>
            <a:ext cx="2239920" cy="603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6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8640" y="1347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864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864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864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7600" y="591984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0252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122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252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025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148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2640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640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1704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264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9536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4092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4092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5064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5064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0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960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1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42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7452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3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424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4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8424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5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52840" y="59166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0812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6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0812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7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9840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8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081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9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708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0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286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2286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1"/>
          <a:stretch/>
        </p:blipFill>
        <p:spPr>
          <a:xfrm>
            <a:off x="76320" y="670572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8640" y="1347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64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864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92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920" y="5919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32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296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0180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018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0180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2748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2748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1632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2568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2568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4020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4200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4992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499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4992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1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8352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752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8352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35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82440" y="59166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088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6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088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7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9768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8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74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9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0740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28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228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6320" y="670572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IMC</dc:creator>
  <dc:description>This is a Jeopardy-type game that serves as a review for the Agricultural Education I curriculum.</dc:description>
  <dc:language>en-US</dc:language>
  <cp:lastModifiedBy>mcoop</cp:lastModifiedBy>
  <dcterms:modified xsi:type="dcterms:W3CDTF">2006-10-10T15:28:31Z</dcterms:modified>
  <cp:revision>167</cp:revision>
  <dc:subject/>
  <dc:title>Agriculture for 500</dc:title>
</cp:coreProperties>
</file>