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65B3-DE0B-4604-A7DC-F20216218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17EF-9DB6-499F-885C-096A4D6BB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4D6F-2DFB-4D14-B392-76E16A9E6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6E7B-1686-453C-9FFA-76BC1FE67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413B-BC36-4698-8747-8889418B8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0F4F-F314-455F-94C0-58DDE8FDD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1D15-A955-40CC-AE1B-6DCF0E1B5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2ABA-5083-4E01-A5BF-23DA50BC2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FDF3-8AE0-4B8B-BD21-06881E63D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CF47-F32B-4F63-AD77-B37215B7A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5C1C-A4D7-4FA8-A5B2-4D338910E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51EA-F740-4785-9045-C9DB14F31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141B2-A087-46FC-A906-B7D83161F4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7.xml"/><Relationship Id="rId3" Type="http://schemas.openxmlformats.org/officeDocument/2006/relationships/slideLayout" Target="../slideLayouts/slideLayout5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7.xml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7.xml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7.xml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7.xml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7.xml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7.xml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7.xml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7.xml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7.xml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7.xml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7.xml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7.xml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68.xml"/><Relationship Id="rId3" Type="http://schemas.openxmlformats.org/officeDocument/2006/relationships/slide" Target="slide70.xml"/><Relationship Id="rId4" Type="http://schemas.openxmlformats.org/officeDocument/2006/relationships/slide" Target="slide72.xml"/><Relationship Id="rId5" Type="http://schemas.openxmlformats.org/officeDocument/2006/relationships/slide" Target="slide74.xml"/><Relationship Id="rId6" Type="http://schemas.openxmlformats.org/officeDocument/2006/relationships/slide" Target="slide76.xml"/><Relationship Id="rId7" Type="http://schemas.openxmlformats.org/officeDocument/2006/relationships/slide" Target="slide78.xml"/><Relationship Id="rId8" Type="http://schemas.openxmlformats.org/officeDocument/2006/relationships/slide" Target="slide80.xml"/><Relationship Id="rId9" Type="http://schemas.openxmlformats.org/officeDocument/2006/relationships/slide" Target="slide82.xml"/><Relationship Id="rId10" Type="http://schemas.openxmlformats.org/officeDocument/2006/relationships/slide" Target="slide84.xml"/><Relationship Id="rId11" Type="http://schemas.openxmlformats.org/officeDocument/2006/relationships/slide" Target="slide86.xml"/><Relationship Id="rId12" Type="http://schemas.openxmlformats.org/officeDocument/2006/relationships/slide" Target="slide88.xml"/><Relationship Id="rId13" Type="http://schemas.openxmlformats.org/officeDocument/2006/relationships/slide" Target="slide90.xml"/><Relationship Id="rId14" Type="http://schemas.openxmlformats.org/officeDocument/2006/relationships/slide" Target="slide92.xml"/><Relationship Id="rId15" Type="http://schemas.openxmlformats.org/officeDocument/2006/relationships/slide" Target="slide94.xml"/><Relationship Id="rId16" Type="http://schemas.openxmlformats.org/officeDocument/2006/relationships/slide" Target="slide96.xml"/><Relationship Id="rId17" Type="http://schemas.openxmlformats.org/officeDocument/2006/relationships/slide" Target="slide98.xml"/><Relationship Id="rId18" Type="http://schemas.openxmlformats.org/officeDocument/2006/relationships/slide" Target="slide100.xml"/><Relationship Id="rId19" Type="http://schemas.openxmlformats.org/officeDocument/2006/relationships/slide" Target="slide102.xml"/><Relationship Id="rId20" Type="http://schemas.openxmlformats.org/officeDocument/2006/relationships/slide" Target="slide104.xml"/><Relationship Id="rId21" Type="http://schemas.openxmlformats.org/officeDocument/2006/relationships/slide" Target="slide106.xml"/><Relationship Id="rId22" Type="http://schemas.openxmlformats.org/officeDocument/2006/relationships/slide" Target="slide108.xml"/><Relationship Id="rId23" Type="http://schemas.openxmlformats.org/officeDocument/2006/relationships/slide" Target="slide110.xml"/><Relationship Id="rId24" Type="http://schemas.openxmlformats.org/officeDocument/2006/relationships/slide" Target="slide112.xml"/><Relationship Id="rId25" Type="http://schemas.openxmlformats.org/officeDocument/2006/relationships/image" Target="../media/image3.png"/><Relationship Id="rId26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8.xml"/><Relationship Id="rId3" Type="http://schemas.openxmlformats.org/officeDocument/2006/relationships/slide" Target="slide10.xml"/><Relationship Id="rId4" Type="http://schemas.openxmlformats.org/officeDocument/2006/relationships/slide" Target="slide12.xml"/><Relationship Id="rId5" Type="http://schemas.openxmlformats.org/officeDocument/2006/relationships/slide" Target="slide14.xml"/><Relationship Id="rId6" Type="http://schemas.openxmlformats.org/officeDocument/2006/relationships/slide" Target="slide16.xml"/><Relationship Id="rId7" Type="http://schemas.openxmlformats.org/officeDocument/2006/relationships/slide" Target="slide18.xml"/><Relationship Id="rId8" Type="http://schemas.openxmlformats.org/officeDocument/2006/relationships/slide" Target="slide20.xml"/><Relationship Id="rId9" Type="http://schemas.openxmlformats.org/officeDocument/2006/relationships/slide" Target="slide22.xml"/><Relationship Id="rId10" Type="http://schemas.openxmlformats.org/officeDocument/2006/relationships/slide" Target="slide24.xml"/><Relationship Id="rId11" Type="http://schemas.openxmlformats.org/officeDocument/2006/relationships/slide" Target="slide26.xml"/><Relationship Id="rId12" Type="http://schemas.openxmlformats.org/officeDocument/2006/relationships/slide" Target="slide28.xml"/><Relationship Id="rId13" Type="http://schemas.openxmlformats.org/officeDocument/2006/relationships/slide" Target="slide30.xml"/><Relationship Id="rId14" Type="http://schemas.openxmlformats.org/officeDocument/2006/relationships/slide" Target="slide32.xml"/><Relationship Id="rId15" Type="http://schemas.openxmlformats.org/officeDocument/2006/relationships/slide" Target="slide34.xml"/><Relationship Id="rId16" Type="http://schemas.openxmlformats.org/officeDocument/2006/relationships/slide" Target="slide36.xml"/><Relationship Id="rId17" Type="http://schemas.openxmlformats.org/officeDocument/2006/relationships/slide" Target="slide38.xml"/><Relationship Id="rId18" Type="http://schemas.openxmlformats.org/officeDocument/2006/relationships/slide" Target="slide40.xml"/><Relationship Id="rId19" Type="http://schemas.openxmlformats.org/officeDocument/2006/relationships/slide" Target="slide42.xml"/><Relationship Id="rId20" Type="http://schemas.openxmlformats.org/officeDocument/2006/relationships/slide" Target="slide44.xml"/><Relationship Id="rId21" Type="http://schemas.openxmlformats.org/officeDocument/2006/relationships/slide" Target="slide46.xml"/><Relationship Id="rId22" Type="http://schemas.openxmlformats.org/officeDocument/2006/relationships/slide" Target="slide48.xml"/><Relationship Id="rId23" Type="http://schemas.openxmlformats.org/officeDocument/2006/relationships/slide" Target="slide50.xml"/><Relationship Id="rId24" Type="http://schemas.openxmlformats.org/officeDocument/2006/relationships/slide" Target="slide52.xml"/><Relationship Id="rId25" Type="http://schemas.openxmlformats.org/officeDocument/2006/relationships/slide" Target="slide54.xml"/><Relationship Id="rId26" Type="http://schemas.openxmlformats.org/officeDocument/2006/relationships/image" Target="../media/image3.png"/><Relationship Id="rId27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7.xml"/><Relationship Id="rId3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441936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Arial Unicode MS"/>
              </a:rPr>
              <a:t>A review of </a:t>
            </a:r>
            <a:br>
              <a:rPr sz="2000"/>
            </a:br>
            <a:r>
              <a:rPr b="0" i="1" lang="en-US" sz="2000" spc="-1" strike="noStrike">
                <a:solidFill>
                  <a:srgbClr val="66ccff"/>
                </a:solidFill>
                <a:latin typeface="Arial Unicode MS"/>
              </a:rPr>
              <a:t>Agricultural Education I</a:t>
            </a:r>
            <a:br>
              <a:rPr sz="2000"/>
            </a:br>
            <a:r>
              <a:rPr b="0" lang="en-US" sz="2000" spc="-1" strike="noStrike">
                <a:solidFill>
                  <a:srgbClr val="66ccff"/>
                </a:solidFill>
                <a:latin typeface="Arial Unicode MS"/>
              </a:rPr>
              <a:t>Unit 5 Objectives 1-2, 4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95560" y="3857760"/>
            <a:ext cx="33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 Unicode MS"/>
              </a:rPr>
              <a:t>Swine Facts,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4572000" y="678168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375760" y="0"/>
            <a:ext cx="761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3399"/>
                </a:solidFill>
                <a:latin typeface="Arial Unicode MS"/>
              </a:rPr>
              <a:t>Corbis Pho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1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2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4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6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4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6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4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8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4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8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4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10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4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10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5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2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5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2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5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4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5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4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1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2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5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6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5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6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5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8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5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8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Arial Unicode MS"/>
              </a:rPr>
              <a:t>Double Points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86104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5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10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5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10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1066680" y="1066680"/>
            <a:ext cx="685800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INAL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QUESTIO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Write the last question here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665440" y="6095880"/>
            <a:ext cx="367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 Unicode MS"/>
              </a:rPr>
              <a:t>Click screen to start 30-second sound cli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7162920" y="533412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Final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1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3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480" y="22860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Copyright 2007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Curriculum and Instructional Materials Cent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Oklahoma Department of Career and Technology Educ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1500 W. Seventh Ave., Stillwater, OK  74074-4364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Toll Free: 800-654-4502 / http://www.okcimc.com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Prepared By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Sara Pehrsson and Margi Stone Cooper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With Special Thanks To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Randy McDani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CIMC" descr=""/>
          <p:cNvPicPr/>
          <p:nvPr/>
        </p:nvPicPr>
        <p:blipFill>
          <a:blip r:embed="rId2"/>
          <a:stretch/>
        </p:blipFill>
        <p:spPr>
          <a:xfrm>
            <a:off x="3322800" y="1371600"/>
            <a:ext cx="2239920" cy="60336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3"/>
          <a:stretch/>
        </p:blipFill>
        <p:spPr>
          <a:xfrm>
            <a:off x="8610480" y="632448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4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1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3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2" action="ppaction://hlinksldjump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1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4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1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4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rId2" action="ppaction://hlinksldjump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1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5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1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5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2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1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2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1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2" action="ppaction://hlinksldjump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762120"/>
            <a:ext cx="76197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1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2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2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2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2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2" action="ppaction://hlinksldjump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2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3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2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3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rId2" action="ppaction://hlinksldjump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2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4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2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4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rId2" action="ppaction://hlinksldjump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2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5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2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5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rId2" action="ppaction://hlinksldjump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3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1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3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1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rId2" action="ppaction://hlinksldjump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3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2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3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2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>
            <a:hlinkClick r:id="rId2" action="ppaction://hlinksldjump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3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3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3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3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rId2" action="ppaction://hlinksldjump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3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4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3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4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2" action="ppaction://hlinksldjump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3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5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3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5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4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1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4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1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4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2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4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2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4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3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4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3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4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4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4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4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4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5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4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5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5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1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5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1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4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5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2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5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2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5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3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5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3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5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4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5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4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Arial Unicode MS"/>
              </a:rPr>
              <a:t>Double Points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86104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5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5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5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5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8375760" y="0"/>
            <a:ext cx="761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3399"/>
                </a:solidFill>
                <a:latin typeface="Arial Unicode MS"/>
              </a:rPr>
              <a:t>Corbis Pho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1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4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040400" y="134784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040400" y="249084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2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40400" y="363384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3" action="ppaction://hlinksldjump"/>
              </a:rPr>
              <a:t>6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40400" y="477684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4" action="ppaction://hlinksldjump"/>
              </a:rPr>
              <a:t>8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09360" y="5919840"/>
            <a:ext cx="12294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5" action="ppaction://hlinksldjump"/>
              </a:rPr>
              <a:t>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564640" y="1344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6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74000" y="2487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7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64640" y="3630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8" action="ppaction://hlinksldjump"/>
              </a:rPr>
              <a:t>6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564640" y="4773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9" action="ppaction://hlinksldjump"/>
              </a:rPr>
              <a:t>8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433600" y="5916600"/>
            <a:ext cx="12294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10" action="ppaction://hlinksldjump"/>
              </a:rPr>
              <a:t>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088520" y="13320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11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088520" y="249084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12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079160" y="36180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13" action="ppaction://hlinksldjump"/>
              </a:rPr>
              <a:t>6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088520" y="4773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14" action="ppaction://hlinksldjump"/>
              </a:rPr>
              <a:t>8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957480" y="5916600"/>
            <a:ext cx="12294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15" action="ppaction://hlinksldjump"/>
              </a:rPr>
              <a:t>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03040" y="1344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16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03040" y="2487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17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612400" y="3630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18" action="ppaction://hlinksldjump"/>
              </a:rPr>
              <a:t>6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612400" y="4773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19" action="ppaction://hlinksldjump"/>
              </a:rPr>
              <a:t>8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481360" y="5916600"/>
            <a:ext cx="12294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20" action="ppaction://hlinksldjump"/>
              </a:rPr>
              <a:t>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146000" y="1344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21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136640" y="2487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22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146000" y="3630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23" action="ppaction://hlinksldjump"/>
              </a:rPr>
              <a:t>6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146000" y="4773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24" action="ppaction://hlinksldjump"/>
              </a:rPr>
              <a:t>8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4960" y="591660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839080" y="6553080"/>
            <a:ext cx="228600" cy="152640"/>
          </a:xfrm>
          <a:prstGeom prst="star5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14400" y="228600"/>
            <a:ext cx="1295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Categ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438280" y="228600"/>
            <a:ext cx="129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Categ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962520" y="228600"/>
            <a:ext cx="1295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Categ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86400" y="228600"/>
            <a:ext cx="1295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Categ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10280" y="228600"/>
            <a:ext cx="129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Categ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5"/>
          <a:stretch/>
        </p:blipFill>
        <p:spPr>
          <a:xfrm>
            <a:off x="838080" y="6705720"/>
            <a:ext cx="76320" cy="7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1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2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1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2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1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4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1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4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040400" y="134784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2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40400" y="249084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3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40400" y="363384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4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38960" y="477684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5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38960" y="591984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6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64640" y="1344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7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74000" y="2487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8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62840" y="3630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9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62840" y="4773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10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62840" y="5916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11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88520" y="13320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12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88520" y="249084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13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077360" y="36180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14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087080" y="4773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15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087080" y="5916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16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01600" y="1344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17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03040" y="2487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18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610960" y="3630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19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610960" y="4773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20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610960" y="5916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21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144560" y="1344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22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136640" y="2487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23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144560" y="3630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24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144560" y="4773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25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144560" y="591660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839080" y="6553080"/>
            <a:ext cx="228600" cy="152640"/>
          </a:xfrm>
          <a:prstGeom prst="star5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22860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Category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438280" y="228600"/>
            <a:ext cx="12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Category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62520" y="22860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Category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86400" y="22860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Category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010280" y="228600"/>
            <a:ext cx="12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Category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6"/>
          <a:stretch/>
        </p:blipFill>
        <p:spPr>
          <a:xfrm>
            <a:off x="838080" y="6705720"/>
            <a:ext cx="76320" cy="7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1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6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1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6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1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8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1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8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1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10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1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10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2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2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2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2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2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4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2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4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1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1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2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6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2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6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2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8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2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8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2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10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2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10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3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2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3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2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3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4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3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4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>
            <a:hlinkClick r:id="rId2" action="ppaction://hlinksldjump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1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1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3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6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3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6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3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8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3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8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3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10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3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10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4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2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4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2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4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4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4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4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7:16:48Z</dcterms:created>
  <dc:creator>CIMC</dc:creator>
  <dc:description>This is a Jeopardy-type game that serves as a review for the Agricultural Education I curriculum.</dc:description>
  <dc:language>en-US</dc:language>
  <cp:lastModifiedBy>mcoop</cp:lastModifiedBy>
  <dcterms:modified xsi:type="dcterms:W3CDTF">2006-10-10T15:30:21Z</dcterms:modified>
  <cp:revision>169</cp:revision>
  <dc:subject/>
  <dc:title>Agriculture for 500</dc:title>
</cp:coreProperties>
</file>