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70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8.xml.rels" ContentType="application/vnd.openxmlformats-package.relationships+xml"/>
  <Override PartName="/ppt/slides/_rels/slide95.xml.rels" ContentType="application/vnd.openxmlformats-package.relationships+xml"/>
  <Override PartName="/ppt/slides/_rels/slide11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83.xml.rels" ContentType="application/vnd.openxmlformats-package.relationships+xml"/>
  <Override PartName="/ppt/slides/_rels/slide92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96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2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8AFC-52DC-4041-AB3F-1004A66D0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A4B0-D7F8-4F0F-B844-9BDC3A1B9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C31B-B9B2-4B94-B687-ADC6E60E5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8001-D1A3-42AF-B7DD-40BDB9614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30D2-73A8-4B1B-8FFB-EECAEF2E5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D884-7150-4B8A-862B-CA555A4C9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6FF6-39CA-4782-B3A8-E5072F581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4924-F2AA-4A8C-BE14-89FEF5F94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BAF8-B10A-4B03-875D-F4368C4DE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B7C9-F57E-4D33-828A-1BF31E852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0E0D-9A9C-42B4-830D-A581C8005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E2A6-1F26-4C74-9523-D745D57B8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147ED-3472-48F7-B888-F6A53C6ED5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file:///tmp/home/.config/libreoffice/4/user/gallery/Clapping.wav" TargetMode="External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file:///tmp/home/.config/libreoffice/4/user/gallery/Clapping.wav" TargetMode="External"/><Relationship Id="rId3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file:///tmp/home/.config/libreoffice/4/user/gallery/Clapping.wav" TargetMode="External"/><Relationship Id="rId3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file:///tmp/home/.config/libreoffice/4/user/gallery/Clapping.wav" TargetMode="External"/><Relationship Id="rId3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file:///tmp/home/.config/libreoffice/4/user/gallery/Clapping.wav" TargetMode="External"/><Relationship Id="rId3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56.xml"/><Relationship Id="rId3" Type="http://schemas.openxmlformats.org/officeDocument/2006/relationships/slide" Target="slide58.xml"/><Relationship Id="rId4" Type="http://schemas.openxmlformats.org/officeDocument/2006/relationships/slide" Target="slide60.xml"/><Relationship Id="rId5" Type="http://schemas.openxmlformats.org/officeDocument/2006/relationships/slide" Target="slide62.xml"/><Relationship Id="rId6" Type="http://schemas.openxmlformats.org/officeDocument/2006/relationships/slide" Target="slide64.xml"/><Relationship Id="rId7" Type="http://schemas.openxmlformats.org/officeDocument/2006/relationships/slide" Target="slide66.xml"/><Relationship Id="rId8" Type="http://schemas.openxmlformats.org/officeDocument/2006/relationships/slide" Target="slide68.xml"/><Relationship Id="rId9" Type="http://schemas.openxmlformats.org/officeDocument/2006/relationships/slide" Target="slide70.xml"/><Relationship Id="rId10" Type="http://schemas.openxmlformats.org/officeDocument/2006/relationships/slide" Target="slide75.xml"/><Relationship Id="rId11" Type="http://schemas.openxmlformats.org/officeDocument/2006/relationships/slide" Target="slide77.xml"/><Relationship Id="rId12" Type="http://schemas.openxmlformats.org/officeDocument/2006/relationships/slide" Target="slide79.xml"/><Relationship Id="rId13" Type="http://schemas.openxmlformats.org/officeDocument/2006/relationships/slide" Target="slide81.xml"/><Relationship Id="rId14" Type="http://schemas.openxmlformats.org/officeDocument/2006/relationships/slide" Target="slide83.xml"/><Relationship Id="rId15" Type="http://schemas.openxmlformats.org/officeDocument/2006/relationships/slide" Target="slide85.xml"/><Relationship Id="rId16" Type="http://schemas.openxmlformats.org/officeDocument/2006/relationships/slide" Target="slide87.xml"/><Relationship Id="rId17" Type="http://schemas.openxmlformats.org/officeDocument/2006/relationships/slide" Target="slide89.xml"/><Relationship Id="rId18" Type="http://schemas.openxmlformats.org/officeDocument/2006/relationships/slide" Target="slide91.xml"/><Relationship Id="rId19" Type="http://schemas.openxmlformats.org/officeDocument/2006/relationships/slide" Target="slide93.xml"/><Relationship Id="rId20" Type="http://schemas.openxmlformats.org/officeDocument/2006/relationships/image" Target="../media/image3.png"/><Relationship Id="rId2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file:///tmp/home/.config/libreoffice/4/user/gallery/Clapping.wav" TargetMode="External"/><Relationship Id="rId3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file:///tmp/home/.config/libreoffice/4/user/gallery/Clapping.wav" TargetMode="External"/><Relationship Id="rId3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file:///tmp/home/.config/libreoffice/4/user/gallery/Clapping.wav" TargetMode="External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7.xml"/><Relationship Id="rId3" Type="http://schemas.openxmlformats.org/officeDocument/2006/relationships/slide" Target="slide9.xml"/><Relationship Id="rId4" Type="http://schemas.openxmlformats.org/officeDocument/2006/relationships/slide" Target="slide11.xml"/><Relationship Id="rId5" Type="http://schemas.openxmlformats.org/officeDocument/2006/relationships/slide" Target="slide13.xml"/><Relationship Id="rId6" Type="http://schemas.openxmlformats.org/officeDocument/2006/relationships/slide" Target="slide15.xml"/><Relationship Id="rId7" Type="http://schemas.openxmlformats.org/officeDocument/2006/relationships/slide" Target="slide17.xml"/><Relationship Id="rId8" Type="http://schemas.openxmlformats.org/officeDocument/2006/relationships/slide" Target="slide19.xml"/><Relationship Id="rId9" Type="http://schemas.openxmlformats.org/officeDocument/2006/relationships/slide" Target="slide21.xml"/><Relationship Id="rId10" Type="http://schemas.openxmlformats.org/officeDocument/2006/relationships/slide" Target="slide23.xml"/><Relationship Id="rId11" Type="http://schemas.openxmlformats.org/officeDocument/2006/relationships/slide" Target="slide25.xml"/><Relationship Id="rId12" Type="http://schemas.openxmlformats.org/officeDocument/2006/relationships/slide" Target="slide27.xml"/><Relationship Id="rId13" Type="http://schemas.openxmlformats.org/officeDocument/2006/relationships/slide" Target="slide29.xml"/><Relationship Id="rId14" Type="http://schemas.openxmlformats.org/officeDocument/2006/relationships/slide" Target="slide31.xml"/><Relationship Id="rId15" Type="http://schemas.openxmlformats.org/officeDocument/2006/relationships/slide" Target="slide36.xml"/><Relationship Id="rId16" Type="http://schemas.openxmlformats.org/officeDocument/2006/relationships/slide" Target="slide38.xml"/><Relationship Id="rId17" Type="http://schemas.openxmlformats.org/officeDocument/2006/relationships/slide" Target="slide40.xml"/><Relationship Id="rId18" Type="http://schemas.openxmlformats.org/officeDocument/2006/relationships/slide" Target="slide42.xml"/><Relationship Id="rId19" Type="http://schemas.openxmlformats.org/officeDocument/2006/relationships/slide" Target="slide44.xml"/><Relationship Id="rId20" Type="http://schemas.openxmlformats.org/officeDocument/2006/relationships/slide" Target="slide46.xml"/><Relationship Id="rId21" Type="http://schemas.openxmlformats.org/officeDocument/2006/relationships/image" Target="../media/image3.png"/><Relationship Id="rId2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file:///tmp/home/.config/libreoffice/4/user/gallery/Clapping.wav" TargetMode="External"/><Relationship Id="rId3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file:///tmp/home/.config/libreoffice/4/user/gallery/Clapping.wav" TargetMode="External"/><Relationship Id="rId3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file:///tmp/home/.config/libreoffice/4/user/gallery/Clapping.wav" TargetMode="External"/><Relationship Id="rId3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file:///tmp/home/.config/libreoffice/4/user/gallery/Clapping.wav" TargetMode="External"/><Relationship Id="rId3" Type="http://schemas.openxmlformats.org/officeDocument/2006/relationships/slideLayout" Target="../slideLayouts/slideLayout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file:///tmp/home/.config/libreoffice/4/user/gallery/Clapping.wav" TargetMode="External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file:///tmp/home/.config/libreoffice/4/user/gallery/Clapping.wav" TargetMode="External"/><Relationship Id="rId3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file:///tmp/home/.config/libreoffice/4/user/gallery/Clapping.wav" TargetMode="External"/><Relationship Id="rId3" Type="http://schemas.openxmlformats.org/officeDocument/2006/relationships/slideLayout" Target="../slideLayouts/slideLayout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file:///tmp/home/.config/libreoffice/4/user/gallery/Clapping.wav" TargetMode="External"/><Relationship Id="rId3" Type="http://schemas.openxmlformats.org/officeDocument/2006/relationships/slideLayout" Target="../slideLayouts/slideLayout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file:///tmp/home/.config/libreoffice/4/user/gallery/Clapping.wav" TargetMode="External"/><Relationship Id="rId3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file:///tmp/home/.config/libreoffice/4/user/gallery/Clapping.wav" TargetMode="External"/><Relationship Id="rId3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file:///tmp/home/.config/libreoffice/4/user/gallery/Clapping.wav" TargetMode="External"/><Relationship Id="rId3" Type="http://schemas.openxmlformats.org/officeDocument/2006/relationships/slideLayout" Target="../slideLayouts/slideLayout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file:///tmp/home/.config/libreoffice/4/user/gallery/Clapping.wav" TargetMode="External"/><Relationship Id="rId3" Type="http://schemas.openxmlformats.org/officeDocument/2006/relationships/slideLayout" Target="../slideLayouts/slideLayout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file:///tmp/home/.config/libreoffice/4/user/gallery/Clapping.wav" TargetMode="External"/><Relationship Id="rId3" Type="http://schemas.openxmlformats.org/officeDocument/2006/relationships/slideLayout" Target="../slideLayouts/slideLayout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file:///tmp/home/.config/libreoffice/4/user/gallery/Clapping.wav" TargetMode="External"/><Relationship Id="rId3" Type="http://schemas.openxmlformats.org/officeDocument/2006/relationships/slideLayout" Target="../slideLayouts/slideLayout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file:///tmp/home/.config/libreoffice/4/user/gallery/Clapping.wav" TargetMode="External"/><Relationship Id="rId3" Type="http://schemas.openxmlformats.org/officeDocument/2006/relationships/slideLayout" Target="../slideLayouts/slideLayout5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file:///tmp/home/.config/libreoffice/4/user/gallery/Clapping.wav" TargetMode="External"/><Relationship Id="rId3" Type="http://schemas.openxmlformats.org/officeDocument/2006/relationships/slideLayout" Target="../slideLayouts/slideLayout5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file:///tmp/home/.config/libreoffice/4/user/gallery/Clapping.wav" TargetMode="External"/><Relationship Id="rId3" Type="http://schemas.openxmlformats.org/officeDocument/2006/relationships/slideLayout" Target="../slideLayouts/slideLayout5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4419360"/>
            <a:ext cx="373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ccff"/>
                </a:solidFill>
                <a:latin typeface="Arial Unicode MS"/>
              </a:rPr>
              <a:t>A review of </a:t>
            </a:r>
            <a:br>
              <a:rPr sz="2000"/>
            </a:br>
            <a:r>
              <a:rPr b="0" i="1" lang="en-US" sz="2000" spc="-1" strike="noStrike">
                <a:solidFill>
                  <a:srgbClr val="66ccff"/>
                </a:solidFill>
                <a:latin typeface="Arial Unicode MS"/>
              </a:rPr>
              <a:t>Agricultural Education I</a:t>
            </a:r>
            <a:br>
              <a:rPr sz="2000"/>
            </a:br>
            <a:r>
              <a:rPr b="0" lang="en-US" sz="2000" spc="-1" strike="noStrike">
                <a:solidFill>
                  <a:srgbClr val="66ccff"/>
                </a:solidFill>
                <a:latin typeface="Arial Unicode MS"/>
              </a:rPr>
              <a:t>Unit 5 Objectives 1-2, 4-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9067680" y="6781680"/>
            <a:ext cx="76320" cy="763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0" y="6781680"/>
            <a:ext cx="76320" cy="763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95560" y="3857760"/>
            <a:ext cx="33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Arial Unicode MS"/>
              </a:rPr>
              <a:t>Swine Facts,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4572000" y="6781680"/>
            <a:ext cx="76320" cy="763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8375760" y="0"/>
            <a:ext cx="761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3399"/>
                </a:solidFill>
                <a:latin typeface="Arial Unicode MS"/>
              </a:rPr>
              <a:t>Corbis Pho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1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2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1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3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1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3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>
            <a:hlinkClick r:id="rId2" action="ppaction://hlinksldjump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1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4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1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4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>
            <a:hlinkClick r:id="rId2" action="ppaction://hlinksldjump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1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5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1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5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>
            <a:hlinkClick r:id="rId2" action="ppaction://hlinksldjump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2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1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2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1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>
            <a:hlinkClick r:id="rId2" action="ppaction://hlinksldjump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2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2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762120"/>
            <a:ext cx="76197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1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80880" y="6324480"/>
            <a:ext cx="76320" cy="7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2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2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>
            <a:hlinkClick r:id="rId2" action="ppaction://hlinksldjump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2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3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2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3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>
            <a:hlinkClick r:id="rId2" action="ppaction://hlinksldjump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2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4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2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4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>
            <a:hlinkClick r:id="rId2" action="ppaction://hlinksldjump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2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5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2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5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>
            <a:hlinkClick r:id="rId2" action="ppaction://hlinksldjump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3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1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3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1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>
            <a:hlinkClick r:id="rId2" action="ppaction://hlinksldjump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3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2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2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3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2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>
            <a:hlinkClick r:id="rId2" action="ppaction://hlinksldjump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3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3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3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3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>
            <a:hlinkClick r:id="rId2" action="ppaction://hlinksldjump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380880" y="6324480"/>
            <a:ext cx="76320" cy="7632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3300"/>
                </a:solidFill>
                <a:latin typeface="Arial Unicode MS"/>
              </a:rPr>
              <a:t>Double Points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8610480" y="63244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3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4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3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4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>
            <a:hlinkClick r:id="rId2" action="ppaction://hlinksldjump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3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5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3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5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>
            <a:hlinkClick r:id="rId2" action="ppaction://hlinksldjump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4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1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4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1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>
            <a:hlinkClick r:id="rId2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3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4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2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4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2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>
            <a:hlinkClick r:id="rId2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4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3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4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3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>
            <a:hlinkClick r:id="rId2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4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4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4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4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>
            <a:hlinkClick r:id="rId2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4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5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4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5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>
            <a:hlinkClick r:id="rId2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0" y="6781680"/>
            <a:ext cx="76320" cy="763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9067680" y="6781680"/>
            <a:ext cx="76320" cy="763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8375760" y="0"/>
            <a:ext cx="761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3399"/>
                </a:solidFill>
                <a:latin typeface="Arial Unicode MS"/>
              </a:rPr>
              <a:t>Corbis Pho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1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380880" y="6324480"/>
            <a:ext cx="76320" cy="7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4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2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3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4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802520" y="134784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Unicode MS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802520" y="2490840"/>
            <a:ext cx="9669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  <a:hlinkClick r:id="rId2" action="ppaction://hlinksldjump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802520" y="3633840"/>
            <a:ext cx="9669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  <a:hlinkClick r:id="rId3" action="ppaction://hlinksldjump"/>
              </a:rPr>
              <a:t>6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802520" y="4776840"/>
            <a:ext cx="9669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  <a:hlinkClick r:id="rId4" action="ppaction://hlinksldjump"/>
              </a:rPr>
              <a:t>8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71480" y="5919840"/>
            <a:ext cx="122940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  <a:hlinkClick r:id="rId5" action="ppaction://hlinksldjump"/>
              </a:rPr>
              <a:t>1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326400" y="1344600"/>
            <a:ext cx="9669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  <a:hlinkClick r:id="rId6" action="ppaction://hlinksldjump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336120" y="2487600"/>
            <a:ext cx="9669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  <a:hlinkClick r:id="rId7" action="ppaction://hlinksldjump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326400" y="3630600"/>
            <a:ext cx="9669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  <a:hlinkClick r:id="rId8" action="ppaction://hlinksldjump"/>
              </a:rPr>
              <a:t>6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326400" y="4773600"/>
            <a:ext cx="9669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  <a:hlinkClick r:id="rId9" action="ppaction://hlinksldjump"/>
              </a:rPr>
              <a:t>8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195360" y="5916600"/>
            <a:ext cx="12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Unicode MS"/>
              </a:rPr>
              <a:t>1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850640" y="1332000"/>
            <a:ext cx="9669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  <a:hlinkClick r:id="rId10" action="ppaction://hlinksldjump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50640" y="2490840"/>
            <a:ext cx="9669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  <a:hlinkClick r:id="rId11" action="ppaction://hlinksldjump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840920" y="3618000"/>
            <a:ext cx="9669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  <a:hlinkClick r:id="rId12" action="ppaction://hlinksldjump"/>
              </a:rPr>
              <a:t>6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850640" y="4773600"/>
            <a:ext cx="9669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  <a:hlinkClick r:id="rId13" action="ppaction://hlinksldjump"/>
              </a:rPr>
              <a:t>8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719600" y="5916600"/>
            <a:ext cx="122940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  <a:hlinkClick r:id="rId14" action="ppaction://hlinksldjump"/>
              </a:rPr>
              <a:t>1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365160" y="1344600"/>
            <a:ext cx="9669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  <a:hlinkClick r:id="rId15" action="ppaction://hlinksldjump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365160" y="2487600"/>
            <a:ext cx="9669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  <a:hlinkClick r:id="rId16" action="ppaction://hlinksldjump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374520" y="3630600"/>
            <a:ext cx="9669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  <a:hlinkClick r:id="rId17" action="ppaction://hlinksldjump"/>
              </a:rPr>
              <a:t>6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374520" y="4773600"/>
            <a:ext cx="9669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  <a:hlinkClick r:id="rId18" action="ppaction://hlinksldjump"/>
              </a:rPr>
              <a:t>8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243480" y="5916600"/>
            <a:ext cx="122940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  <a:hlinkClick r:id="rId19" action="ppaction://hlinksldjump"/>
              </a:rPr>
              <a:t>1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839080" y="6553080"/>
            <a:ext cx="228600" cy="152640"/>
          </a:xfrm>
          <a:prstGeom prst="star5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676520" y="228600"/>
            <a:ext cx="1295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Unicode MS"/>
              </a:rPr>
              <a:t>Categ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Unicode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200400" y="228600"/>
            <a:ext cx="1295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Unicode MS"/>
              </a:rPr>
              <a:t>Categ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Unicode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724280" y="228600"/>
            <a:ext cx="1295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Unicode MS"/>
              </a:rPr>
              <a:t>Categ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Unicode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248520" y="228600"/>
            <a:ext cx="1295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Unicode MS"/>
              </a:rPr>
              <a:t>Categ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Unicode MS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0"/>
          <a:stretch/>
        </p:blipFill>
        <p:spPr>
          <a:xfrm>
            <a:off x="1600200" y="6705720"/>
            <a:ext cx="76320" cy="7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1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2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1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2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>
            <a:hlinkClick r:id="rId2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1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4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1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4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>
            <a:hlinkClick r:id="rId2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1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6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1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6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>
            <a:hlinkClick r:id="rId2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802520" y="1347840"/>
            <a:ext cx="9669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  <a:hlinkClick r:id="rId2" action="ppaction://hlinksldjump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802520" y="2490840"/>
            <a:ext cx="9669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  <a:hlinkClick r:id="rId3" action="ppaction://hlinksldjump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802520" y="3633840"/>
            <a:ext cx="9669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  <a:hlinkClick r:id="rId4" action="ppaction://hlinksldjump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801080" y="4776840"/>
            <a:ext cx="9669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  <a:hlinkClick r:id="rId5" action="ppaction://hlinksldjump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801080" y="5919840"/>
            <a:ext cx="9669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  <a:hlinkClick r:id="rId6" action="ppaction://hlinksldjump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326400" y="1344600"/>
            <a:ext cx="9669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  <a:hlinkClick r:id="rId7" action="ppaction://hlinksldjump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336120" y="2487600"/>
            <a:ext cx="9669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  <a:hlinkClick r:id="rId8" action="ppaction://hlinksldjump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24960" y="3630600"/>
            <a:ext cx="9669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  <a:hlinkClick r:id="rId9" action="ppaction://hlinksldjump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324960" y="4773600"/>
            <a:ext cx="9669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  <a:hlinkClick r:id="rId10" action="ppaction://hlinksldjump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24960" y="5916600"/>
            <a:ext cx="9669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  <a:hlinkClick r:id="rId11" action="ppaction://hlinksldjump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850640" y="1332000"/>
            <a:ext cx="9669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  <a:hlinkClick r:id="rId12" action="ppaction://hlinksldjump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850640" y="2490840"/>
            <a:ext cx="9669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  <a:hlinkClick r:id="rId13" action="ppaction://hlinksldjump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839480" y="3618000"/>
            <a:ext cx="9669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  <a:hlinkClick r:id="rId14" action="ppaction://hlinksldjump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48840" y="477360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Unicode MS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848840" y="5916600"/>
            <a:ext cx="9669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  <a:hlinkClick r:id="rId15" action="ppaction://hlinksldjump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363360" y="1344600"/>
            <a:ext cx="9669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  <a:hlinkClick r:id="rId16" action="ppaction://hlinksldjump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365160" y="2487600"/>
            <a:ext cx="9669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  <a:hlinkClick r:id="rId17" action="ppaction://hlinksldjump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373080" y="3630600"/>
            <a:ext cx="9669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  <a:hlinkClick r:id="rId18" action="ppaction://hlinksldjump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373080" y="4773600"/>
            <a:ext cx="9669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  <a:hlinkClick r:id="rId19" action="ppaction://hlinksldjump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373080" y="5916600"/>
            <a:ext cx="9669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  <a:hlinkClick r:id="rId20" action="ppaction://hlinksldjump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839080" y="6553080"/>
            <a:ext cx="228600" cy="152640"/>
          </a:xfrm>
          <a:prstGeom prst="star5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676520" y="228600"/>
            <a:ext cx="129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Unicode MS"/>
              </a:rPr>
              <a:t>Category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0400" y="228600"/>
            <a:ext cx="129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Unicode MS"/>
              </a:rPr>
              <a:t>Category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724280" y="228600"/>
            <a:ext cx="129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Unicode MS"/>
              </a:rPr>
              <a:t>Category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228600"/>
            <a:ext cx="129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Unicode MS"/>
              </a:rPr>
              <a:t>Category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1"/>
          <a:stretch/>
        </p:blipFill>
        <p:spPr>
          <a:xfrm>
            <a:off x="1600200" y="6705720"/>
            <a:ext cx="76320" cy="7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1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8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1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8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>
            <a:hlinkClick r:id="rId2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1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10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1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10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>
            <a:hlinkClick r:id="rId2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2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2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2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2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>
            <a:hlinkClick r:id="rId2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2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4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2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4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>
            <a:hlinkClick r:id="rId2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2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6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2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6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>
            <a:hlinkClick r:id="rId2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1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1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2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8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2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8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>
            <a:hlinkClick r:id="rId2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380880" y="6324480"/>
            <a:ext cx="76320" cy="7632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3300"/>
                </a:solidFill>
                <a:latin typeface="Arial Unicode MS"/>
              </a:rPr>
              <a:t>Double Points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>
            <a:off x="8610480" y="63244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2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10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2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10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>
            <a:hlinkClick r:id="rId2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3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2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3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2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>
            <a:hlinkClick r:id="rId2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3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4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3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4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>
            <a:hlinkClick r:id="rId2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3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6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>
            <a:hlinkClick r:id="rId2" action="ppaction://hlinksldjump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1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1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3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6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>
            <a:hlinkClick r:id="rId2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3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8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3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8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>
            <a:hlinkClick r:id="rId2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3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10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3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10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>
            <a:hlinkClick r:id="rId2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4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2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4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2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>
            <a:hlinkClick r:id="rId2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4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4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4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4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>
            <a:hlinkClick r:id="rId2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4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6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1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2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4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6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>
            <a:hlinkClick r:id="rId2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4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8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4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8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>
            <a:hlinkClick r:id="rId2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Category 4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1000 C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Category 4</a:t>
            </a:r>
            <a:br>
              <a:rPr sz="6600"/>
            </a:b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1000 Correct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>
            <a:hlinkClick r:id="rId2"/>
          </p:cNvPr>
          <p:cNvSpPr/>
          <p:nvPr/>
        </p:nvSpPr>
        <p:spPr>
          <a:xfrm>
            <a:off x="533520" y="548640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1066680" y="1066680"/>
            <a:ext cx="6858000" cy="480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INAL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QUESTION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</a:rPr>
              <a:t>Write the last question here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665440" y="6095880"/>
            <a:ext cx="367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 Unicode MS"/>
              </a:rPr>
              <a:t>Click screen to start 30-second sound cli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380880" y="63244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7162920" y="533412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ff"/>
                </a:solidFill>
                <a:latin typeface="Arial Unicode MS"/>
              </a:rPr>
              <a:t>Final Respon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480" y="22860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Copyright 2007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Curriculum and Instructional Materials Cent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Oklahoma Department of Career and Technology Educa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1500 W. Seventh Ave., Stillwater, OK  74074-4364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Toll Free: 800-654-4502 / http://www.okcimc.com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Prepared By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Sara Pehrsson and Margi Stone Cooper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With Special Thanks To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Randy McDani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CIMC" descr=""/>
          <p:cNvPicPr/>
          <p:nvPr/>
        </p:nvPicPr>
        <p:blipFill>
          <a:blip r:embed="rId2"/>
          <a:stretch/>
        </p:blipFill>
        <p:spPr>
          <a:xfrm>
            <a:off x="3322800" y="1371600"/>
            <a:ext cx="2239920" cy="60336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8610480" y="6324480"/>
            <a:ext cx="76320" cy="7632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4"/>
          <a:stretch/>
        </p:blipFill>
        <p:spPr>
          <a:xfrm>
            <a:off x="380880" y="63244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7T17:16:48Z</dcterms:created>
  <dc:creator>CIMC</dc:creator>
  <dc:description>This is a Jeopardy-type game that serves as a review for the Agricultural Education I curriculum.</dc:description>
  <dc:language>en-US</dc:language>
  <cp:lastModifiedBy>mcoop</cp:lastModifiedBy>
  <dcterms:modified xsi:type="dcterms:W3CDTF">2006-10-10T15:35:40Z</dcterms:modified>
  <cp:revision>184</cp:revision>
  <dc:subject/>
  <dc:title>Agriculture for 500</dc:title>
</cp:coreProperties>
</file>