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3E7-76AF-4CDE-A3DD-FB9A2FF4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310F-9FE8-42E6-8867-A0716705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A85-3D3A-4A38-9FCB-7C96E932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57ED-5110-4EEB-9041-BFE927BE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0506-4CF0-45D3-A3D0-8D92BEC7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1A9-4860-4F57-B124-6AA0EAA2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3A2-B9D3-4F61-B22A-0195BE52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2AA3-C473-4B01-A40C-A9A7FE55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321-25D2-4D4A-AA96-E725385E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EF98-061E-4D82-8496-A10A2C29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FFAE-0D2E-486E-B108-1CA015F7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2917-710E-44F6-9DEE-EE9686AE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C3B9-62DF-48E5-80C8-03E195DA5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6.xml"/><Relationship Id="rId3" Type="http://schemas.openxmlformats.org/officeDocument/2006/relationships/slide" Target="slide58.xml"/><Relationship Id="rId4" Type="http://schemas.openxmlformats.org/officeDocument/2006/relationships/slide" Target="slide60.xml"/><Relationship Id="rId5" Type="http://schemas.openxmlformats.org/officeDocument/2006/relationships/slide" Target="slide62.xml"/><Relationship Id="rId6" Type="http://schemas.openxmlformats.org/officeDocument/2006/relationships/slide" Target="slide64.xml"/><Relationship Id="rId7" Type="http://schemas.openxmlformats.org/officeDocument/2006/relationships/slide" Target="slide66.xml"/><Relationship Id="rId8" Type="http://schemas.openxmlformats.org/officeDocument/2006/relationships/slide" Target="slide68.xml"/><Relationship Id="rId9" Type="http://schemas.openxmlformats.org/officeDocument/2006/relationships/slide" Target="slide70.xml"/><Relationship Id="rId10" Type="http://schemas.openxmlformats.org/officeDocument/2006/relationships/slide" Target="slide75.xml"/><Relationship Id="rId11" Type="http://schemas.openxmlformats.org/officeDocument/2006/relationships/slide" Target="slide77.xml"/><Relationship Id="rId12" Type="http://schemas.openxmlformats.org/officeDocument/2006/relationships/slide" Target="slide79.xml"/><Relationship Id="rId13" Type="http://schemas.openxmlformats.org/officeDocument/2006/relationships/slide" Target="slide81.xml"/><Relationship Id="rId14" Type="http://schemas.openxmlformats.org/officeDocument/2006/relationships/slide" Target="slide83.xml"/><Relationship Id="rId15" Type="http://schemas.openxmlformats.org/officeDocument/2006/relationships/slide" Target="slide85.xml"/><Relationship Id="rId16" Type="http://schemas.openxmlformats.org/officeDocument/2006/relationships/slide" Target="slide87.xml"/><Relationship Id="rId17" Type="http://schemas.openxmlformats.org/officeDocument/2006/relationships/slide" Target="slide89.xml"/><Relationship Id="rId18" Type="http://schemas.openxmlformats.org/officeDocument/2006/relationships/slide" Target="slide91.xml"/><Relationship Id="rId19" Type="http://schemas.openxmlformats.org/officeDocument/2006/relationships/slide" Target="slide93.xml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9.xml"/><Relationship Id="rId9" Type="http://schemas.openxmlformats.org/officeDocument/2006/relationships/slide" Target="slide21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27.xml"/><Relationship Id="rId13" Type="http://schemas.openxmlformats.org/officeDocument/2006/relationships/slide" Target="slide29.xml"/><Relationship Id="rId14" Type="http://schemas.openxmlformats.org/officeDocument/2006/relationships/slide" Target="slide31.xml"/><Relationship Id="rId15" Type="http://schemas.openxmlformats.org/officeDocument/2006/relationships/slide" Target="slide36.xml"/><Relationship Id="rId16" Type="http://schemas.openxmlformats.org/officeDocument/2006/relationships/slide" Target="slide38.xml"/><Relationship Id="rId17" Type="http://schemas.openxmlformats.org/officeDocument/2006/relationships/slide" Target="slide40.xml"/><Relationship Id="rId18" Type="http://schemas.openxmlformats.org/officeDocument/2006/relationships/slide" Target="slide42.xml"/><Relationship Id="rId19" Type="http://schemas.openxmlformats.org/officeDocument/2006/relationships/slide" Target="slide44.xml"/><Relationship Id="rId20" Type="http://schemas.openxmlformats.org/officeDocument/2006/relationships/slide" Target="slide46.xml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419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 Unicode MS"/>
              </a:rPr>
              <a:t>A review of </a:t>
            </a:r>
            <a:br>
              <a:rPr sz="2000"/>
            </a:br>
            <a:r>
              <a:rPr b="0" i="1" lang="en-US" sz="2000" spc="-1" strike="noStrike">
                <a:solidFill>
                  <a:srgbClr val="66ccff"/>
                </a:solidFill>
                <a:latin typeface="Arial Unicode MS"/>
              </a:rPr>
              <a:t>Agricultural Education I</a:t>
            </a:r>
            <a:br>
              <a:rPr sz="2000"/>
            </a:br>
            <a:r>
              <a:rPr b="0" lang="en-US" sz="2000" spc="-1" strike="noStrike">
                <a:solidFill>
                  <a:srgbClr val="66ccff"/>
                </a:solidFill>
                <a:latin typeface="Arial Unicode MS"/>
              </a:rPr>
              <a:t>Unit 5 Objectives 1-2, 4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5560" y="385776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Unicode MS"/>
              </a:rPr>
              <a:t>Swine Facts,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7200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75760" y="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3399"/>
                </a:solidFill>
                <a:latin typeface="Arial Unicode MS"/>
              </a:rPr>
              <a:t>Corbis Pho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19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 Unicode MS"/>
              </a:rPr>
              <a:t>Double Point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375760" y="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3399"/>
                </a:solidFill>
                <a:latin typeface="Arial Unicode MS"/>
              </a:rPr>
              <a:t>Corbis Pho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02520" y="13478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0252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02520" y="3633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3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02520" y="4776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4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1480" y="591984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5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40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6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3612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7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2640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8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2640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9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95360" y="591660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50640" y="1332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0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5064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1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40920" y="3618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2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5064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3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19600" y="591660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4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6516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5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6516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7452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7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7452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8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3480" y="591660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9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228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228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228600"/>
            <a:ext cx="12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228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0"/>
          <a:stretch/>
        </p:blipFill>
        <p:spPr>
          <a:xfrm>
            <a:off x="1600200" y="67057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02520" y="1347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0252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02520" y="3633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01080" y="4776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1080" y="5919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6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2640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7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3612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8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2496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9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2496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0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24960" y="5916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1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0640" y="1332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5064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39480" y="3618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48840" y="47736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48840" y="5916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5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6336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6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6516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7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7308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8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308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9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73080" y="5916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0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2286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1"/>
          <a:stretch/>
        </p:blipFill>
        <p:spPr>
          <a:xfrm>
            <a:off x="1600200" y="67057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 Unicode MS"/>
              </a:rPr>
              <a:t>Double Point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066680" y="1066680"/>
            <a:ext cx="6858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S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Write the last question here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5440" y="6095880"/>
            <a:ext cx="367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Unicode MS"/>
              </a:rPr>
              <a:t>Click screen to start 30-second sound cl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162920" y="53341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Final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opyright 2007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urriculum and Instructional Materials Cent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Oklahoma Department of Career and Technology Educ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1500 W. Seventh Ave., Stillwater, OK  74074-4364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oll Free: 800-654-4502 / http://www.okcimc.com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repared B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ara Pehrsson and Margi Stone Cooper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With Special Thanks T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Randy McDan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CIMC" descr=""/>
          <p:cNvPicPr/>
          <p:nvPr/>
        </p:nvPicPr>
        <p:blipFill>
          <a:blip r:embed="rId2"/>
          <a:stretch/>
        </p:blipFill>
        <p:spPr>
          <a:xfrm>
            <a:off x="3322800" y="1371600"/>
            <a:ext cx="2239920" cy="603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CIMC</dc:creator>
  <dc:description>This is a Jeopardy-type game that serves as a review for the Agricultural Education I curriculum.</dc:description>
  <dc:language>en-US</dc:language>
  <cp:lastModifiedBy>mcoop</cp:lastModifiedBy>
  <dcterms:modified xsi:type="dcterms:W3CDTF">2006-10-10T15:35:40Z</dcterms:modified>
  <cp:revision>184</cp:revision>
  <dc:subject/>
  <dc:title>Agriculture for 500</dc:title>
</cp:coreProperties>
</file>